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801-D0CB-44C4-9124-2E023098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CBB-1D4B-4EE0-87AD-743ACF19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26EC-3D3D-4422-8323-12212B7D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735-1C66-4DB7-A0BE-CED7B05E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B3A2-2345-4EFA-9EF4-AAD2E22A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C226-6CAD-420F-A115-FB84EF0D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E5C9-61AD-4A9E-8D1B-751D5C89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2AD6-55C8-4EBC-91C6-208E43FA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134E-126B-4D85-837C-CE4E9C2D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9BED-EA68-415E-992E-AE7EACE8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6FC6-69AE-4C39-A559-9F9504FC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975-96C2-439E-8863-AD4B8EB7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BDF0-09FE-4FC3-A439-000AF4A1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0FD2-B106-4EDA-9A81-76E60274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4411-4717-4BB5-9DC9-1A15F0E9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412E-1CDC-4972-899E-C00F1FFC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B6FA-2EAA-427B-A6B4-108E8371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E64-9913-44A8-82A9-F8B72575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EAD-5710-44B3-8C2F-B4F4842D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12C-2271-4A6B-97DF-8C926E81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4B9-5129-42FE-951D-2CA132FF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12FC-8E71-4C04-8DA0-1153AD07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708-9722-43C4-AC42-A7718D01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ED4-ADA5-4D4C-BF33-A01FE396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A0C7-89B8-4DAA-9AEB-E3985CFD42D7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BA8F-7B82-4CEC-BA8E-C121E9887C1C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Shelve Me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Put me in the correct Dewey Category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6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118040" cy="53341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7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4427640" cy="57909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8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3833640" cy="4876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9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736720" y="1600200"/>
            <a:ext cx="4484880" cy="50292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1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749680" y="1600200"/>
            <a:ext cx="3929040" cy="5257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et’s check our answers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1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0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40200" y="1981080"/>
            <a:ext cx="306216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2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3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459160" y="1447920"/>
            <a:ext cx="4752720" cy="67816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3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1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76720" y="1676520"/>
            <a:ext cx="3617640" cy="55623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4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8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979720" y="1523880"/>
            <a:ext cx="3890880" cy="50292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sp>
        <p:nvSpPr>
          <p:cNvPr id="119" name=""/>
          <p:cNvSpPr/>
          <p:nvPr/>
        </p:nvSpPr>
        <p:spPr>
          <a:xfrm>
            <a:off x="6035760" y="2221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Read what kind of books go in each Dewey category on your handout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5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2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62320" y="1981080"/>
            <a:ext cx="4122720" cy="64771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6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4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118040" cy="53341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7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6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4427640" cy="57909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8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5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3833640" cy="4876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9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9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736720" y="1600200"/>
            <a:ext cx="4484880" cy="50292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10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7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749680" y="1600200"/>
            <a:ext cx="3929040" cy="5257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xit Interview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Did you like the game?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Is there a change you would like to see if we play the game again?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What do the numbers on the boxes on the counter tops have to do with this game?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et’s try again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I’ll show you a picture of a book and you write down the Dewey number where you think the book would be shelved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1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4680" y="1981080"/>
            <a:ext cx="2998800" cy="4648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2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3434040" cy="5257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ffe3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ffe3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Dewey Decimal System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000 – Computer science, general information, real life mysteries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100 – Philosophy and psychology (what’s going on in you, 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emotions, behavior and belief systems)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200 – Religion and Mythology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300 – Social sciences (government, holidays, folk tales)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400 – Languages (Spanish, French, sign language)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500 – Science and Mathematics (planets, weather, earth, animals)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600 – Technology and applied science (inventions,medicine, 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building, transportation, gardening pets, cook 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books)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700 – Arts and recreation (drawing, crafts, music, dance, games, 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sports)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800 – Literature (plays,poety, jokes, classic literature)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cfdfa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fdfa"/>
                </a:solidFill>
                <a:latin typeface="Lucida Grande"/>
              </a:rPr>
              <a:t>900 – History and geography and biography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3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5330880" cy="43671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4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71800" y="2209680"/>
            <a:ext cx="3517920" cy="4648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5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3251160" cy="4876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6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982960" y="1981080"/>
            <a:ext cx="3587760" cy="4648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7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844720" y="1981080"/>
            <a:ext cx="3710160" cy="44197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8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984400" y="1981080"/>
            <a:ext cx="3468960" cy="44960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9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127320" y="1981080"/>
            <a:ext cx="3048120" cy="4343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1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3628800" cy="4343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Ready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Verdana"/>
              </a:rPr>
              <a:t>Let’s check our papers and see how you did this time.</a:t>
            </a:r>
            <a:endParaRPr b="0" lang="en-US" sz="3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1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1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4680" y="1981080"/>
            <a:ext cx="2998800" cy="4648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276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your paper from one to ten.  When each picture comes up write down the number of the Dewey category where you think it would go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2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8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3434040" cy="5257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3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3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5330880" cy="43671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4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6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971800" y="2209680"/>
            <a:ext cx="3517920" cy="4648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5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2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3251160" cy="4876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6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4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982960" y="1981080"/>
            <a:ext cx="3587760" cy="4648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7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7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844720" y="1981080"/>
            <a:ext cx="3710160" cy="44197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8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8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984400" y="1981080"/>
            <a:ext cx="3468960" cy="44960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9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9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127320" y="1981080"/>
            <a:ext cx="3048120" cy="4343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10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000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3628800" cy="4343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xit Interview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Pick two numbers from the Dewey System for arranging books and tell what kind of non fiction books would go in those categories.  Do this from memory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ould some books go in more than one category?  Explain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1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0200" y="1981080"/>
            <a:ext cx="306216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2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59160" y="1447920"/>
            <a:ext cx="4752720" cy="67816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3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667320" cy="56386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4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9720" y="1523880"/>
            <a:ext cx="3890880" cy="50292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umber 5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62320" y="1981080"/>
            <a:ext cx="4122720" cy="64771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38:08Z</dcterms:created>
  <dc:creator>School Technology</dc:creator>
  <dc:description/>
  <dc:language>en-US</dc:language>
  <cp:lastModifiedBy>School Technology</cp:lastModifiedBy>
  <dcterms:modified xsi:type="dcterms:W3CDTF">2009-01-11T16:47:45Z</dcterms:modified>
  <cp:revision>8</cp:revision>
  <dc:subject/>
  <dc:title>Shelve Me</dc:title>
</cp:coreProperties>
</file>